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163-DE82-41BA-AE6C-0B3C1C7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96B-AE7A-49BA-A760-4E4E3096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FB3-2951-43E6-9D62-795B56BC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3C1-1550-4672-80B8-9C2823F1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270-7B7B-413A-8034-29B6D42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9C9-81C9-4445-9AB0-A7C6432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E59-C369-4A10-8E16-D3D23B93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E10-C49B-43A5-863F-62A379A9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546-0207-4505-A223-9CA21C0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B3F-797D-4B5E-A988-C0E0694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D5A-5A8B-40B5-8483-3C0D4EF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F92-79F1-41BE-B368-7E2A665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DCF-9172-4C15-8626-0EAF70077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reate your own signs or symbols or graph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any graphics or symbols you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one at the far right ha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ddrive"/>
          <p:cNvSpPr/>
          <p:nvPr/>
        </p:nvSpPr>
        <p:spPr>
          <a:xfrm>
            <a:off x="838080" y="4419720"/>
            <a:ext cx="180972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914400" y="609480"/>
            <a:ext cx="1143000" cy="766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aptop"/>
          <p:cNvSpPr/>
          <p:nvPr/>
        </p:nvSpPr>
        <p:spPr>
          <a:xfrm>
            <a:off x="609480" y="3276720"/>
            <a:ext cx="121932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onitor"/>
          <p:cNvSpPr/>
          <p:nvPr/>
        </p:nvSpPr>
        <p:spPr>
          <a:xfrm>
            <a:off x="3276720" y="4419720"/>
            <a:ext cx="1218960" cy="89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usic"/>
          <p:cNvSpPr/>
          <p:nvPr/>
        </p:nvSpPr>
        <p:spPr>
          <a:xfrm>
            <a:off x="6781680" y="5257800"/>
            <a:ext cx="1219320" cy="895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L"/>
          <p:cNvSpPr/>
          <p:nvPr/>
        </p:nvSpPr>
        <p:spPr>
          <a:xfrm>
            <a:off x="1676520" y="548640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41904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OvalCallout"/>
          <p:cNvSpPr/>
          <p:nvPr/>
        </p:nvSpPr>
        <p:spPr>
          <a:xfrm>
            <a:off x="0" y="2590920"/>
            <a:ext cx="838080" cy="838080"/>
          </a:xfrm>
          <a:custGeom>
            <a:avLst/>
            <a:gdLst>
              <a:gd name="textAreaLeft" fmla="*/ 122760 w 838080"/>
              <a:gd name="textAreaRight" fmla="*/ 715320 w 838080"/>
              <a:gd name="textAreaTop" fmla="*/ 91800 h 838080"/>
              <a:gd name="textAreaBottom" fmla="*/ 536760 h 838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canner1"/>
          <p:cNvSpPr/>
          <p:nvPr/>
        </p:nvSpPr>
        <p:spPr>
          <a:xfrm>
            <a:off x="1905120" y="312408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UTurnArrow"/>
          <p:cNvSpPr/>
          <p:nvPr/>
        </p:nvSpPr>
        <p:spPr>
          <a:xfrm>
            <a:off x="6324480" y="4572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hoto"/>
          <p:cNvSpPr/>
          <p:nvPr/>
        </p:nvSpPr>
        <p:spPr>
          <a:xfrm>
            <a:off x="7467480" y="3886200"/>
            <a:ext cx="129564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tebulb"/>
          <p:cNvSpPr/>
          <p:nvPr/>
        </p:nvSpPr>
        <p:spPr>
          <a:xfrm>
            <a:off x="3200400" y="5562720"/>
            <a:ext cx="1004760" cy="10904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hone3"/>
          <p:cNvSpPr/>
          <p:nvPr/>
        </p:nvSpPr>
        <p:spPr>
          <a:xfrm>
            <a:off x="7848720" y="2514600"/>
            <a:ext cx="9144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mputr3"/>
          <p:cNvSpPr/>
          <p:nvPr/>
        </p:nvSpPr>
        <p:spPr>
          <a:xfrm>
            <a:off x="5105520" y="5257800"/>
            <a:ext cx="1676160" cy="1447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UpRibbonSharp"/>
          <p:cNvSpPr/>
          <p:nvPr/>
        </p:nvSpPr>
        <p:spPr>
          <a:xfrm>
            <a:off x="3962520" y="3352680"/>
            <a:ext cx="3124080" cy="76212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0 h 762120"/>
              <a:gd name="textAreaBottom" fmla="*/ 6670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ubCross"/>
          <p:cNvSpPr/>
          <p:nvPr/>
        </p:nvSpPr>
        <p:spPr>
          <a:xfrm>
            <a:off x="838080" y="1523880"/>
            <a:ext cx="1219320" cy="1295640"/>
          </a:xfrm>
          <a:custGeom>
            <a:avLst/>
            <a:gdLst>
              <a:gd name="textAreaLeft" fmla="*/ 304920 w 1219320"/>
              <a:gd name="textAreaRight" fmla="*/ 914760 w 12193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438280" y="0"/>
            <a:ext cx="2209680" cy="1399680"/>
            <a:chOff x="2438280" y="0"/>
            <a:chExt cx="2209680" cy="1399680"/>
          </a:xfrm>
        </p:grpSpPr>
        <p:sp>
          <p:nvSpPr>
            <p:cNvPr id="63" name="Film"/>
            <p:cNvSpPr/>
            <p:nvPr/>
          </p:nvSpPr>
          <p:spPr>
            <a:xfrm>
              <a:off x="2438280" y="356400"/>
              <a:ext cx="921960" cy="10432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ound"/>
            <p:cNvSpPr/>
            <p:nvPr/>
          </p:nvSpPr>
          <p:spPr>
            <a:xfrm>
              <a:off x="2971440" y="0"/>
              <a:ext cx="1280160" cy="6919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hoto"/>
            <p:cNvSpPr/>
            <p:nvPr/>
          </p:nvSpPr>
          <p:spPr>
            <a:xfrm>
              <a:off x="3459240" y="410760"/>
              <a:ext cx="1188720" cy="6267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Music"/>
            <p:cNvSpPr/>
            <p:nvPr/>
          </p:nvSpPr>
          <p:spPr>
            <a:xfrm>
              <a:off x="3596760" y="778320"/>
              <a:ext cx="975240" cy="605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Film"/>
          <p:cNvSpPr/>
          <p:nvPr/>
        </p:nvSpPr>
        <p:spPr>
          <a:xfrm>
            <a:off x="5334120" y="228600"/>
            <a:ext cx="8287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Homepage"/>
          <p:cNvSpPr/>
          <p:nvPr/>
        </p:nvSpPr>
        <p:spPr>
          <a:xfrm>
            <a:off x="2438280" y="1523880"/>
            <a:ext cx="1447920" cy="1143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cuments"/>
          <p:cNvSpPr/>
          <p:nvPr/>
        </p:nvSpPr>
        <p:spPr>
          <a:xfrm>
            <a:off x="4267080" y="1752480"/>
            <a:ext cx="990720" cy="1276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tter"/>
          <p:cNvSpPr/>
          <p:nvPr/>
        </p:nvSpPr>
        <p:spPr>
          <a:xfrm>
            <a:off x="5715000" y="2362320"/>
            <a:ext cx="167652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ound"/>
          <p:cNvSpPr/>
          <p:nvPr/>
        </p:nvSpPr>
        <p:spPr>
          <a:xfrm>
            <a:off x="5334120" y="4267080"/>
            <a:ext cx="990360" cy="819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ubTriangle"/>
          <p:cNvSpPr/>
          <p:nvPr/>
        </p:nvSpPr>
        <p:spPr>
          <a:xfrm rot="12655800">
            <a:off x="4952880" y="2285280"/>
            <a:ext cx="2895840" cy="33512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133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70600">
            <a:off x="5451120" y="35733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Favorite Novel this year:  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04920"/>
            <a:ext cx="3429000" cy="312408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600200"/>
            <a:ext cx="2133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goal that I achieved this year:  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105520"/>
            <a:ext cx="4953240" cy="1523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5257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whom I will never forget and why:  _______________________________________________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690600">
            <a:off x="3487680" y="977760"/>
            <a:ext cx="2698560" cy="1260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769200">
            <a:off x="3795480" y="123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uitcase belongs to: 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3429000" cy="30481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685800"/>
            <a:ext cx="2133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very important things I learned this ye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029200"/>
            <a:ext cx="2971800" cy="1676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niest thing that happened this year: 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038840" cy="121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581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ctivity I really enjoyed:  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447920" y="380880"/>
            <a:ext cx="6781320" cy="5485680"/>
            <a:chOff x="1447920" y="380880"/>
            <a:chExt cx="6781320" cy="5485680"/>
          </a:xfrm>
        </p:grpSpPr>
        <p:sp>
          <p:nvSpPr>
            <p:cNvPr id="88" name=""/>
            <p:cNvSpPr/>
            <p:nvPr/>
          </p:nvSpPr>
          <p:spPr>
            <a:xfrm>
              <a:off x="3080160" y="1500840"/>
              <a:ext cx="3494880" cy="3362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4746600"/>
              <a:ext cx="2008440" cy="1119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4000" y="380880"/>
              <a:ext cx="2008800" cy="1119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800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0" y="4746600"/>
              <a:ext cx="2008440" cy="111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911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5105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y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3276720"/>
            <a:ext cx="144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n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934320" y="228600"/>
            <a:ext cx="1904760" cy="1219320"/>
          </a:xfrm>
          <a:custGeom>
            <a:avLst/>
            <a:gdLst>
              <a:gd name="textAreaLeft" fmla="*/ 78840 w 1904760"/>
              <a:gd name="textAreaRight" fmla="*/ 1825920 w 1904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3739" h="21600">
                <a:moveTo>
                  <a:pt x="0" y="0"/>
                </a:moveTo>
                <a:lnTo>
                  <a:pt x="33739" y="0"/>
                </a:lnTo>
                <a:lnTo>
                  <a:pt x="33739" y="21600"/>
                </a:lnTo>
                <a:lnTo>
                  <a:pt x="0" y="21600"/>
                </a:lnTo>
                <a:close/>
              </a:path>
              <a:path fill="lightenLess" w="33739" h="21600">
                <a:moveTo>
                  <a:pt x="0" y="0"/>
                </a:moveTo>
                <a:lnTo>
                  <a:pt x="33739" y="0"/>
                </a:lnTo>
                <a:lnTo>
                  <a:pt x="32339" y="1400"/>
                </a:lnTo>
                <a:lnTo>
                  <a:pt x="1400" y="1400"/>
                </a:lnTo>
                <a:close/>
              </a:path>
              <a:path fill="darken" w="33739" h="21600">
                <a:moveTo>
                  <a:pt x="33739" y="0"/>
                </a:moveTo>
                <a:lnTo>
                  <a:pt x="33739" y="21600"/>
                </a:lnTo>
                <a:lnTo>
                  <a:pt x="32339" y="20200"/>
                </a:lnTo>
                <a:lnTo>
                  <a:pt x="32339" y="1400"/>
                </a:lnTo>
                <a:close/>
              </a:path>
              <a:path fill="darkenLess" w="33739" h="21600">
                <a:moveTo>
                  <a:pt x="3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39" y="20200"/>
                </a:lnTo>
                <a:close/>
              </a:path>
              <a:path fill="lighten" w="3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39" h="21600">
                <a:moveTo>
                  <a:pt x="9863" y="7301"/>
                </a:moveTo>
                <a:lnTo>
                  <a:pt x="10777" y="7301"/>
                </a:lnTo>
                <a:lnTo>
                  <a:pt x="11160" y="7667"/>
                </a:lnTo>
                <a:lnTo>
                  <a:pt x="20368" y="7667"/>
                </a:lnTo>
                <a:lnTo>
                  <a:pt x="20925" y="8224"/>
                </a:lnTo>
                <a:lnTo>
                  <a:pt x="20925" y="8772"/>
                </a:lnTo>
                <a:lnTo>
                  <a:pt x="22771" y="8772"/>
                </a:lnTo>
                <a:lnTo>
                  <a:pt x="23136" y="8224"/>
                </a:lnTo>
                <a:lnTo>
                  <a:pt x="23876" y="8224"/>
                </a:lnTo>
                <a:lnTo>
                  <a:pt x="23876" y="13376"/>
                </a:lnTo>
                <a:lnTo>
                  <a:pt x="23136" y="13376"/>
                </a:lnTo>
                <a:lnTo>
                  <a:pt x="22771" y="12828"/>
                </a:lnTo>
                <a:lnTo>
                  <a:pt x="20925" y="12828"/>
                </a:lnTo>
                <a:lnTo>
                  <a:pt x="20925" y="14107"/>
                </a:lnTo>
                <a:lnTo>
                  <a:pt x="11343" y="14107"/>
                </a:lnTo>
                <a:lnTo>
                  <a:pt x="11343" y="9877"/>
                </a:lnTo>
                <a:lnTo>
                  <a:pt x="11160" y="9877"/>
                </a:lnTo>
                <a:lnTo>
                  <a:pt x="10777" y="10243"/>
                </a:lnTo>
                <a:lnTo>
                  <a:pt x="986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/>
          </p:cNvPr>
          <p:cNvSpPr/>
          <p:nvPr/>
        </p:nvSpPr>
        <p:spPr>
          <a:xfrm>
            <a:off x="6781680" y="2057400"/>
            <a:ext cx="2133720" cy="1066680"/>
          </a:xfrm>
          <a:custGeom>
            <a:avLst/>
            <a:gdLst>
              <a:gd name="textAreaLeft" fmla="*/ 69120 w 2133720"/>
              <a:gd name="textAreaRight" fmla="*/ 2064600 w 2133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905120"/>
            <a:ext cx="2133360" cy="1143000"/>
          </a:xfrm>
          <a:custGeom>
            <a:avLst/>
            <a:gdLst>
              <a:gd name="textAreaLeft" fmla="*/ 73800 w 2133360"/>
              <a:gd name="textAreaRight" fmla="*/ 2059560 w 2133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0310" h="21600">
                <a:moveTo>
                  <a:pt x="0" y="0"/>
                </a:moveTo>
                <a:lnTo>
                  <a:pt x="40310" y="0"/>
                </a:lnTo>
                <a:lnTo>
                  <a:pt x="40310" y="21600"/>
                </a:lnTo>
                <a:lnTo>
                  <a:pt x="0" y="21600"/>
                </a:lnTo>
                <a:close/>
              </a:path>
              <a:path fill="lightenLess" w="40310" h="21600">
                <a:moveTo>
                  <a:pt x="0" y="0"/>
                </a:moveTo>
                <a:lnTo>
                  <a:pt x="40310" y="0"/>
                </a:lnTo>
                <a:lnTo>
                  <a:pt x="38910" y="1400"/>
                </a:lnTo>
                <a:lnTo>
                  <a:pt x="1400" y="1400"/>
                </a:lnTo>
                <a:close/>
              </a:path>
              <a:path fill="darken" w="40310" h="21600">
                <a:moveTo>
                  <a:pt x="40310" y="0"/>
                </a:moveTo>
                <a:lnTo>
                  <a:pt x="40310" y="21600"/>
                </a:lnTo>
                <a:lnTo>
                  <a:pt x="38910" y="20200"/>
                </a:lnTo>
                <a:lnTo>
                  <a:pt x="38910" y="1400"/>
                </a:lnTo>
                <a:close/>
              </a:path>
              <a:path fill="darkenLess" w="40310" h="21600">
                <a:moveTo>
                  <a:pt x="40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0" y="20200"/>
                </a:lnTo>
                <a:close/>
              </a:path>
              <a:path fill="lighten" w="40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310" h="21600">
                <a:moveTo>
                  <a:pt x="14628" y="3985"/>
                </a:moveTo>
                <a:lnTo>
                  <a:pt x="21626" y="3985"/>
                </a:lnTo>
                <a:lnTo>
                  <a:pt x="25682" y="7484"/>
                </a:lnTo>
                <a:lnTo>
                  <a:pt x="25682" y="17615"/>
                </a:lnTo>
                <a:lnTo>
                  <a:pt x="14628" y="17615"/>
                </a:lnTo>
                <a:close/>
              </a:path>
              <a:path fill="darken" w="40310" h="21600">
                <a:moveTo>
                  <a:pt x="21626" y="3985"/>
                </a:moveTo>
                <a:lnTo>
                  <a:pt x="25682" y="7484"/>
                </a:lnTo>
                <a:lnTo>
                  <a:pt x="21626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2057400" cy="121932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6442" h="21600">
                <a:moveTo>
                  <a:pt x="0" y="0"/>
                </a:moveTo>
                <a:lnTo>
                  <a:pt x="36442" y="0"/>
                </a:lnTo>
                <a:lnTo>
                  <a:pt x="36442" y="21600"/>
                </a:lnTo>
                <a:lnTo>
                  <a:pt x="0" y="21600"/>
                </a:lnTo>
                <a:close/>
              </a:path>
              <a:path fill="lightenLess" w="36442" h="21600">
                <a:moveTo>
                  <a:pt x="0" y="0"/>
                </a:moveTo>
                <a:lnTo>
                  <a:pt x="36442" y="0"/>
                </a:lnTo>
                <a:lnTo>
                  <a:pt x="35042" y="1400"/>
                </a:lnTo>
                <a:lnTo>
                  <a:pt x="1400" y="1400"/>
                </a:lnTo>
                <a:close/>
              </a:path>
              <a:path fill="darken" w="36442" h="21600">
                <a:moveTo>
                  <a:pt x="36442" y="0"/>
                </a:moveTo>
                <a:lnTo>
                  <a:pt x="36442" y="21600"/>
                </a:lnTo>
                <a:lnTo>
                  <a:pt x="35042" y="20200"/>
                </a:lnTo>
                <a:lnTo>
                  <a:pt x="35042" y="1400"/>
                </a:lnTo>
                <a:close/>
              </a:path>
              <a:path fill="darkenLess" w="36442" h="21600">
                <a:moveTo>
                  <a:pt x="36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42" y="20200"/>
                </a:lnTo>
                <a:close/>
              </a:path>
              <a:path fill="lighten" w="36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42" h="21600">
                <a:moveTo>
                  <a:pt x="11215" y="7493"/>
                </a:moveTo>
                <a:lnTo>
                  <a:pt x="14722" y="7493"/>
                </a:lnTo>
                <a:lnTo>
                  <a:pt x="14722" y="12828"/>
                </a:lnTo>
                <a:cubicBezTo>
                  <a:pt x="14722" y="13751"/>
                  <a:pt x="15523" y="14482"/>
                  <a:pt x="16559" y="14482"/>
                </a:cubicBezTo>
                <a:lnTo>
                  <a:pt x="18221" y="14482"/>
                </a:lnTo>
                <a:cubicBezTo>
                  <a:pt x="19257" y="14482"/>
                  <a:pt x="20057" y="13751"/>
                  <a:pt x="20057" y="12828"/>
                </a:cubicBezTo>
                <a:lnTo>
                  <a:pt x="20057" y="7493"/>
                </a:lnTo>
                <a:lnTo>
                  <a:pt x="18221" y="7493"/>
                </a:lnTo>
                <a:lnTo>
                  <a:pt x="21729" y="3985"/>
                </a:lnTo>
                <a:lnTo>
                  <a:pt x="25402" y="7493"/>
                </a:lnTo>
                <a:lnTo>
                  <a:pt x="23565" y="7493"/>
                </a:lnTo>
                <a:lnTo>
                  <a:pt x="23565" y="12828"/>
                </a:lnTo>
                <a:cubicBezTo>
                  <a:pt x="23565" y="15596"/>
                  <a:pt x="20989" y="18155"/>
                  <a:pt x="18221" y="18155"/>
                </a:cubicBezTo>
                <a:lnTo>
                  <a:pt x="16559" y="18155"/>
                </a:lnTo>
                <a:cubicBezTo>
                  <a:pt x="13791" y="18155"/>
                  <a:pt x="11215" y="15596"/>
                  <a:pt x="112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3809880" y="304920"/>
            <a:ext cx="1905120" cy="1218960"/>
          </a:xfrm>
          <a:custGeom>
            <a:avLst/>
            <a:gdLst>
              <a:gd name="textAreaLeft" fmla="*/ 78840 w 1905120"/>
              <a:gd name="textAreaRight" fmla="*/ 1826280 w 19051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3755" h="21600">
                <a:moveTo>
                  <a:pt x="0" y="0"/>
                </a:moveTo>
                <a:lnTo>
                  <a:pt x="33755" y="0"/>
                </a:lnTo>
                <a:lnTo>
                  <a:pt x="33755" y="21600"/>
                </a:lnTo>
                <a:lnTo>
                  <a:pt x="0" y="21600"/>
                </a:lnTo>
                <a:close/>
              </a:path>
              <a:path fill="lightenLess" w="33755" h="21600">
                <a:moveTo>
                  <a:pt x="0" y="0"/>
                </a:moveTo>
                <a:lnTo>
                  <a:pt x="33755" y="0"/>
                </a:lnTo>
                <a:lnTo>
                  <a:pt x="32355" y="1400"/>
                </a:lnTo>
                <a:lnTo>
                  <a:pt x="1400" y="1400"/>
                </a:lnTo>
                <a:close/>
              </a:path>
              <a:path fill="darken" w="33755" h="21600">
                <a:moveTo>
                  <a:pt x="33755" y="0"/>
                </a:moveTo>
                <a:lnTo>
                  <a:pt x="33755" y="21600"/>
                </a:lnTo>
                <a:lnTo>
                  <a:pt x="32355" y="20200"/>
                </a:lnTo>
                <a:lnTo>
                  <a:pt x="32355" y="1400"/>
                </a:lnTo>
                <a:close/>
              </a:path>
              <a:path fill="darkenLess" w="33755" h="21600">
                <a:moveTo>
                  <a:pt x="3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5" y="20200"/>
                </a:lnTo>
                <a:close/>
              </a:path>
              <a:path fill="lighten" w="3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55" h="21600">
                <a:moveTo>
                  <a:pt x="16878" y="3837"/>
                </a:moveTo>
                <a:lnTo>
                  <a:pt x="19454" y="6448"/>
                </a:lnTo>
                <a:lnTo>
                  <a:pt x="19454" y="4707"/>
                </a:lnTo>
                <a:lnTo>
                  <a:pt x="21229" y="4707"/>
                </a:lnTo>
                <a:lnTo>
                  <a:pt x="21229" y="8224"/>
                </a:lnTo>
                <a:lnTo>
                  <a:pt x="23841" y="10800"/>
                </a:lnTo>
                <a:lnTo>
                  <a:pt x="22187" y="10800"/>
                </a:lnTo>
                <a:lnTo>
                  <a:pt x="22187" y="17989"/>
                </a:lnTo>
                <a:lnTo>
                  <a:pt x="11568" y="17989"/>
                </a:lnTo>
                <a:lnTo>
                  <a:pt x="11568" y="10800"/>
                </a:lnTo>
                <a:lnTo>
                  <a:pt x="9915" y="10800"/>
                </a:lnTo>
                <a:close/>
              </a:path>
              <a:path fill="darkenLess" w="33755" h="21600">
                <a:moveTo>
                  <a:pt x="19454" y="6448"/>
                </a:moveTo>
                <a:lnTo>
                  <a:pt x="19454" y="4707"/>
                </a:lnTo>
                <a:lnTo>
                  <a:pt x="21229" y="4707"/>
                </a:lnTo>
                <a:lnTo>
                  <a:pt x="21229" y="8224"/>
                </a:lnTo>
                <a:close/>
              </a:path>
              <a:path fill="darkenLess" w="33755" h="21600">
                <a:moveTo>
                  <a:pt x="15955" y="14299"/>
                </a:moveTo>
                <a:lnTo>
                  <a:pt x="17800" y="14299"/>
                </a:lnTo>
                <a:lnTo>
                  <a:pt x="17800" y="17989"/>
                </a:lnTo>
                <a:lnTo>
                  <a:pt x="22187" y="17989"/>
                </a:lnTo>
                <a:lnTo>
                  <a:pt x="22187" y="10800"/>
                </a:lnTo>
                <a:lnTo>
                  <a:pt x="11568" y="10800"/>
                </a:lnTo>
                <a:lnTo>
                  <a:pt x="11568" y="17989"/>
                </a:lnTo>
                <a:lnTo>
                  <a:pt x="1595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752480"/>
            <a:ext cx="1905120" cy="1143000"/>
          </a:xfrm>
          <a:custGeom>
            <a:avLst/>
            <a:gdLst>
              <a:gd name="textAreaLeft" fmla="*/ 73800 w 1905120"/>
              <a:gd name="textAreaRight" fmla="*/ 1831320 w 19051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998" h="21600">
                <a:moveTo>
                  <a:pt x="0" y="0"/>
                </a:moveTo>
                <a:lnTo>
                  <a:pt x="35998" y="0"/>
                </a:lnTo>
                <a:lnTo>
                  <a:pt x="35998" y="21600"/>
                </a:lnTo>
                <a:lnTo>
                  <a:pt x="0" y="21600"/>
                </a:lnTo>
                <a:close/>
              </a:path>
              <a:path fill="lightenLess" w="35998" h="21600">
                <a:moveTo>
                  <a:pt x="0" y="0"/>
                </a:moveTo>
                <a:lnTo>
                  <a:pt x="35998" y="0"/>
                </a:lnTo>
                <a:lnTo>
                  <a:pt x="34598" y="1400"/>
                </a:lnTo>
                <a:lnTo>
                  <a:pt x="1400" y="1400"/>
                </a:lnTo>
                <a:close/>
              </a:path>
              <a:path fill="darken" w="35998" h="21600">
                <a:moveTo>
                  <a:pt x="35998" y="0"/>
                </a:moveTo>
                <a:lnTo>
                  <a:pt x="35998" y="21600"/>
                </a:lnTo>
                <a:lnTo>
                  <a:pt x="34598" y="20200"/>
                </a:lnTo>
                <a:lnTo>
                  <a:pt x="34598" y="1400"/>
                </a:lnTo>
                <a:close/>
              </a:path>
              <a:path fill="darkenLess" w="35998" h="21600">
                <a:moveTo>
                  <a:pt x="3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8" y="20200"/>
                </a:lnTo>
                <a:close/>
              </a:path>
              <a:path fill="lighten" w="3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733920" y="51814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7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6934320" y="3657600"/>
            <a:ext cx="1904760" cy="1219320"/>
          </a:xfrm>
          <a:custGeom>
            <a:avLst/>
            <a:gdLst>
              <a:gd name="textAreaLeft" fmla="*/ 78840 w 1904760"/>
              <a:gd name="textAreaRight" fmla="*/ 1825920 w 1904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3739" h="21600">
                <a:moveTo>
                  <a:pt x="0" y="0"/>
                </a:moveTo>
                <a:lnTo>
                  <a:pt x="33739" y="0"/>
                </a:lnTo>
                <a:lnTo>
                  <a:pt x="33739" y="21600"/>
                </a:lnTo>
                <a:lnTo>
                  <a:pt x="0" y="21600"/>
                </a:lnTo>
                <a:close/>
              </a:path>
              <a:path fill="lightenLess" w="33739" h="21600">
                <a:moveTo>
                  <a:pt x="0" y="0"/>
                </a:moveTo>
                <a:lnTo>
                  <a:pt x="33739" y="0"/>
                </a:lnTo>
                <a:lnTo>
                  <a:pt x="32339" y="1400"/>
                </a:lnTo>
                <a:lnTo>
                  <a:pt x="1400" y="1400"/>
                </a:lnTo>
                <a:close/>
              </a:path>
              <a:path fill="darken" w="33739" h="21600">
                <a:moveTo>
                  <a:pt x="33739" y="0"/>
                </a:moveTo>
                <a:lnTo>
                  <a:pt x="33739" y="21600"/>
                </a:lnTo>
                <a:lnTo>
                  <a:pt x="32339" y="20200"/>
                </a:lnTo>
                <a:lnTo>
                  <a:pt x="32339" y="1400"/>
                </a:lnTo>
                <a:close/>
              </a:path>
              <a:path fill="darkenLess" w="33739" h="21600">
                <a:moveTo>
                  <a:pt x="3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39" y="20200"/>
                </a:lnTo>
                <a:close/>
              </a:path>
              <a:path fill="lighten" w="3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39" h="21600">
                <a:moveTo>
                  <a:pt x="9863" y="3794"/>
                </a:moveTo>
                <a:lnTo>
                  <a:pt x="23876" y="10800"/>
                </a:lnTo>
                <a:lnTo>
                  <a:pt x="98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6858000" y="52578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22785" y="10800"/>
                </a:moveTo>
                <a:lnTo>
                  <a:pt x="12280" y="17806"/>
                </a:lnTo>
                <a:lnTo>
                  <a:pt x="12280" y="3794"/>
                </a:lnTo>
                <a:close/>
              </a:path>
              <a:path fill="darken" w="38572" h="21600">
                <a:moveTo>
                  <a:pt x="24630" y="3794"/>
                </a:moveTo>
                <a:lnTo>
                  <a:pt x="24630" y="17806"/>
                </a:lnTo>
                <a:lnTo>
                  <a:pt x="26293" y="17806"/>
                </a:lnTo>
                <a:lnTo>
                  <a:pt x="2629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533520" y="51814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3779" y="10800"/>
                </a:moveTo>
                <a:lnTo>
                  <a:pt x="24284" y="3794"/>
                </a:lnTo>
                <a:lnTo>
                  <a:pt x="24284" y="17806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11934" y="3794"/>
                </a:lnTo>
                <a:lnTo>
                  <a:pt x="11934" y="17806"/>
                </a:lnTo>
                <a:lnTo>
                  <a:pt x="102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4290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146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9222" h="21600">
                <a:moveTo>
                  <a:pt x="15716" y="14281"/>
                </a:moveTo>
                <a:lnTo>
                  <a:pt x="15716" y="12323"/>
                </a:lnTo>
                <a:cubicBezTo>
                  <a:pt x="15716" y="11496"/>
                  <a:pt x="16047" y="10800"/>
                  <a:pt x="16648" y="10800"/>
                </a:cubicBezTo>
                <a:cubicBezTo>
                  <a:pt x="17779" y="10800"/>
                  <a:pt x="18676" y="9434"/>
                  <a:pt x="18676" y="7849"/>
                </a:cubicBezTo>
                <a:cubicBezTo>
                  <a:pt x="18676" y="5534"/>
                  <a:pt x="16822" y="3794"/>
                  <a:pt x="14611" y="3794"/>
                </a:cubicBezTo>
                <a:cubicBezTo>
                  <a:pt x="12400" y="3794"/>
                  <a:pt x="10729" y="5534"/>
                  <a:pt x="10729" y="7849"/>
                </a:cubicBezTo>
                <a:lnTo>
                  <a:pt x="12583" y="7849"/>
                </a:lnTo>
                <a:cubicBezTo>
                  <a:pt x="12583" y="6709"/>
                  <a:pt x="13506" y="5821"/>
                  <a:pt x="14611" y="5821"/>
                </a:cubicBezTo>
                <a:cubicBezTo>
                  <a:pt x="15716" y="5821"/>
                  <a:pt x="16648" y="6709"/>
                  <a:pt x="16648" y="7849"/>
                </a:cubicBezTo>
                <a:cubicBezTo>
                  <a:pt x="16648" y="8589"/>
                  <a:pt x="16178" y="9320"/>
                  <a:pt x="15716" y="9320"/>
                </a:cubicBezTo>
                <a:cubicBezTo>
                  <a:pt x="14611" y="9320"/>
                  <a:pt x="13506" y="10800"/>
                  <a:pt x="13506" y="12323"/>
                </a:cubicBezTo>
                <a:lnTo>
                  <a:pt x="1350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276720"/>
            <a:ext cx="1981440" cy="1523880"/>
          </a:xfrm>
          <a:custGeom>
            <a:avLst/>
            <a:gdLst>
              <a:gd name="textAreaLeft" fmla="*/ 98640 w 1981440"/>
              <a:gd name="textAreaRight" fmla="*/ 1882800 w 19814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8084" h="21600">
                <a:moveTo>
                  <a:pt x="0" y="0"/>
                </a:moveTo>
                <a:lnTo>
                  <a:pt x="28084" y="0"/>
                </a:lnTo>
                <a:lnTo>
                  <a:pt x="28084" y="21600"/>
                </a:lnTo>
                <a:lnTo>
                  <a:pt x="0" y="21600"/>
                </a:lnTo>
                <a:close/>
              </a:path>
              <a:path fill="lightenLess" w="28084" h="21600">
                <a:moveTo>
                  <a:pt x="0" y="0"/>
                </a:moveTo>
                <a:lnTo>
                  <a:pt x="28084" y="0"/>
                </a:lnTo>
                <a:lnTo>
                  <a:pt x="26684" y="1400"/>
                </a:lnTo>
                <a:lnTo>
                  <a:pt x="1400" y="1400"/>
                </a:lnTo>
                <a:close/>
              </a:path>
              <a:path fill="darken" w="28084" h="21600">
                <a:moveTo>
                  <a:pt x="28084" y="0"/>
                </a:moveTo>
                <a:lnTo>
                  <a:pt x="28084" y="21600"/>
                </a:lnTo>
                <a:lnTo>
                  <a:pt x="26684" y="20200"/>
                </a:lnTo>
                <a:lnTo>
                  <a:pt x="26684" y="1400"/>
                </a:lnTo>
                <a:close/>
              </a:path>
              <a:path fill="darkenLess" w="28084" h="21600">
                <a:moveTo>
                  <a:pt x="28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4" y="20200"/>
                </a:lnTo>
                <a:close/>
              </a:path>
              <a:path fill="lighten" w="28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4" h="21600">
                <a:moveTo>
                  <a:pt x="1404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084" h="21600">
                <a:moveTo>
                  <a:pt x="1404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084" h="21600">
                <a:moveTo>
                  <a:pt x="11466" y="8224"/>
                </a:moveTo>
                <a:lnTo>
                  <a:pt x="15330" y="8224"/>
                </a:lnTo>
                <a:lnTo>
                  <a:pt x="15330" y="15221"/>
                </a:lnTo>
                <a:lnTo>
                  <a:pt x="16618" y="15221"/>
                </a:lnTo>
                <a:lnTo>
                  <a:pt x="16618" y="16144"/>
                </a:lnTo>
                <a:lnTo>
                  <a:pt x="11466" y="16144"/>
                </a:lnTo>
                <a:lnTo>
                  <a:pt x="11466" y="15221"/>
                </a:lnTo>
                <a:lnTo>
                  <a:pt x="12754" y="15221"/>
                </a:lnTo>
                <a:lnTo>
                  <a:pt x="12754" y="9129"/>
                </a:lnTo>
                <a:lnTo>
                  <a:pt x="11466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5:58:27Z</dcterms:created>
  <dc:creator> </dc:creator>
  <dc:description/>
  <dc:language>en-US</dc:language>
  <cp:lastModifiedBy> </cp:lastModifiedBy>
  <dcterms:modified xsi:type="dcterms:W3CDTF">2012-05-06T19:03:30Z</dcterms:modified>
  <cp:revision>9</cp:revision>
  <dc:subject/>
  <dc:title>Slide 1</dc:title>
</cp:coreProperties>
</file>